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8190-7D55-434E-8985-FD393324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5705-16B4-4745-9A5E-BA4B3113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235B-7A31-4A95-9313-E0F03EC1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A715-816C-4E86-8C78-3232BF65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E8E0-2289-4A71-9DDE-0A0711B8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12E5-978E-4515-A003-18C4533C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942B-CE64-49AA-88A8-73DA8E4A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0A52-283B-4256-8AE5-EBA4A40D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46E4-990B-49FA-9491-9D83A759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3BAB-B415-49C9-8D7D-E4067BEF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B810-DFEA-449B-BAD8-8C98EDCB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841-122B-4FFE-91D3-02F7AF49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FFB7-B3E7-4AA2-8487-1E91C340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B759-ADED-4D77-925E-253F305F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17FA-BABB-4F36-AA39-83FAE905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13C3-5631-4AB0-86AD-3CEBDAAF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4EE9-9C9E-4522-B6FA-F026E823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2D89B6-0082-4681-9F5C-85B7456F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B77B55-244A-4804-AB75-E11A331F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015275-E6B3-4A97-83B4-1E353EDB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CD4B4-990F-4B0C-8DCD-E4F3FD84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0E0685-DDEB-4682-BF2C-71F7CA6F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E72-B99D-472C-A808-81AF3B01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34244-7676-4745-9D14-0639EB6E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6FA1BB-D069-4BA3-9C8B-3F6CC1A3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8CB15-AFEC-4E82-ADBD-38F3D640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2C612-9ED4-4F79-AF26-D759B0B0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0C150-A054-4CD8-9767-5D9DFB81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B0ED08-82F8-4B42-A880-FD344CBA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45129-0CC6-4C9C-9FF9-1A8229EC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22026-8A16-40EE-ACD6-1EAD1FC8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8C51C-6DD5-4F4E-9CE6-1B10D4CE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3F7BD-7485-4D67-B6B9-5BCAB9C9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E933-89D0-4CE2-89C0-24A46B25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1E8F6-908A-4244-9F78-84E045A9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84233-0CC3-4160-92C3-5BE16AA5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E26A0-5AC9-4988-86E7-796B7165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C73BC-3429-43A2-9751-F8F42F76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47AB8-0D78-49E8-BB56-53F1C6B9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07B01-AC37-43AD-BE82-8C25077A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B64DD-73EE-484A-A5C7-F5490F93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C4F9C-F8F9-496E-9EC3-00E2CD86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6777D-BFE3-4DC2-BCF6-764C4701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514562-279B-4A47-898A-7FCFD563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EF6D-B65B-4B84-B0A1-E0696105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FD9F4F-A871-4B8B-8B9F-5353DEE9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17A720-D1C6-4B71-8320-CB8CD287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314CB8-CD4D-4240-A03D-D22BF6F0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1C95E6-E9C7-4DE2-80E4-29FF1760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C1D3F-5808-4E09-9F11-F7A4DB92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7EA476-9A1B-421A-B718-38DCFDB1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2333A1-A8AF-4AF8-A27F-F445B29E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A9E854-80E3-4FA9-B816-397D393C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3B4C63-5034-45BC-B934-B9DA1020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2536A4-AC49-469B-A82B-1FB9AC7E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869E-A83B-4B4D-BC21-1354BE26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A683C8-5DB7-4FDC-AE25-A614F336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37DE3C-54A2-4568-8913-5590ECD0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0D6BE8-C283-4706-920B-E18C4153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47F97A-F0B6-40CD-BC03-E79C72BD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860425-FA23-491A-89CC-6D2F1A67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73BD02-F1AB-44B5-92A9-20065E32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4A4A3F-D97C-41B8-8D4A-3A633ABD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8D74D-C4CA-440B-8F8A-C9BB9167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AF68DF-9D03-4343-BD2C-1142292F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8C072A-4F49-4F70-A453-A9379C98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A36D-91B4-4ADF-98DD-3AC2AC03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F1F2E2-905D-4B02-95AA-57BF1111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B2110E-ABD6-40B7-B6DA-CC140A23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150582-3E0D-4E91-8E39-8AD7B2E1A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0A508F-5FEA-49EF-95B7-1A1A3E39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62F199-AD78-4F55-AA52-E35620B1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08C8EF-A3F9-4672-AFDE-A372BE19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342F0F-1358-453B-9AEA-E81C8695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CCF2D7-53AA-421F-B0FC-76A83ED6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1516E5-7AA9-43DE-91C9-BA741000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2B7463-4154-46DD-8158-4686E1C3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BCE3-D93F-4C5A-89A0-B46B7985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50993A-5934-42F5-B1A8-68C019F0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82431F-39B0-44FE-B587-167C4AB9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30C3FD-8690-49FA-8328-7AEC94B5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8FB8DA-37D8-4AB3-94F1-2D46EFAD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1BBC67-32A2-4750-8801-96002050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D8A2-ACC5-4B5C-B8F8-9B6A641E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F3D2-66C2-4BB3-863B-2E5ED7FD73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4FCD-7F9A-4B64-AD53-1ED6231598B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9A36-D180-4F78-82C2-ABBB7480C9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DB6B-6979-433C-ACCB-72F7EC303CA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6394-888E-4E33-97CA-A26BFE60A20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882A-7623-4DBE-B494-B8E53EAEB64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92EC-216D-409D-B761-47EF11590A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ahUKEwitltuRhYXZAhXR6KQKHTvLAnoQjRwIBw&amp;url=http%3A%2F%2Fwww.dznbgd.com%2Fnovosti%2Fzvanicna-poseta-svetske-zdravstvene-organizacije%2F&amp;psig=AOvVaw1btlconvppP7WyIWWyDo7Y&amp;ust=151758561946598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ahUKEwjC3LeIhIXZAhXHjqQKHUV9CpQQjRwIBw&amp;url=http://www.csr-nis.rs/?page_id=236&amp;psig=AOvVaw26hhyq7ha5PLT90R8qvhbJ&amp;ust=1517585306187618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ahUKEwitltuRhYXZAhXR6KQKHTvLAnoQjRwIBw&amp;url=http%3A%2F%2Fwww.dznbgd.com%2Fnovosti%2Fzvanicna-poseta-svetske-zdravstvene-organizacije%2F&amp;psig=AOvVaw1btlconvppP7WyIWWyDo7Y&amp;ust=151758561946598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3712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entury Schoolbook"/>
              </a:rPr>
              <a:t>ПЛАНИРАЊЕ И ПРОГРАМИРАЊЕ ЗДРАВСТВЕНЕ ЗАШТИТЕ</a:t>
            </a:r>
            <a:br>
              <a:rPr sz="29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entury Schoolbook"/>
              </a:rPr>
              <a:t>ВРЕМЕНСКИ ХОРИЗОНТИ ЗА ПЛАНИРАЊЕ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Дугорочни или перспективни (10 и више годин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Средњерочни (до 10 годин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Краткорочни или оперативни (1-3 годин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3" descr="Rezultat slika za kako planirati"/>
          <p:cNvPicPr/>
          <p:nvPr/>
        </p:nvPicPr>
        <p:blipFill>
          <a:blip r:embed="rId1"/>
          <a:stretch/>
        </p:blipFill>
        <p:spPr>
          <a:xfrm>
            <a:off x="3200400" y="3581280"/>
            <a:ext cx="441972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entury Schoolbook"/>
              </a:rPr>
              <a:t>ОБЛИЦИ ПЛАНИРАЊ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entury Schoolbook"/>
              </a:rPr>
              <a:t>Планирање за популациј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entury Schoolbook"/>
              </a:rPr>
              <a:t>Планирање за институциј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entury Schoolbook"/>
              </a:rPr>
              <a:t>Планирање за програме (уједињује оба претходно поменута тип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acc1e8"/>
                </a:solidFill>
                <a:latin typeface="Century Schoolbook"/>
              </a:rPr>
              <a:t>Програм </a:t>
            </a:r>
            <a:r>
              <a:rPr b="0" lang="sr-RS" sz="2400" spc="-1" strike="noStrike">
                <a:solidFill>
                  <a:srgbClr val="eb6e5a"/>
                </a:solidFill>
                <a:latin typeface="Century Schoolbook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Schoolbook"/>
              </a:rPr>
              <a:t>се дефинише као серија међусобно повезаних активности усмерених на достизање циљева као што су здравље деце , онколошка заштита, превентивна стоматолошка заштита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entury Schoolbook"/>
              </a:rPr>
              <a:t>ОБЛИЦИ ПЛАНИРАЊ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Планирање за популацију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које се фокусира на укупну популацију једног региона са циљем да специфицира промене у постојећим ресурсима за здравље ( институције, кадар, средства ) да би се задовољили захтеви за здравственом службом на тој територији и да би се реализовали постављени циљеви у здравственом стањ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entury Schoolbook"/>
              </a:rPr>
              <a:t>ОБЛИЦИ ПЛАНИРАЊ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Планирање за институције одређује врсте и обим здравствених услуга који постојеће институције  (на територији за коју се планира) треба да достигну да би могли да реализују своје улоге и опстану у међусобним односима са другим институцијам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entury Schoolbook"/>
              </a:rPr>
              <a:t>ПРОГРАМИ ЗДРАВСТВЕНЕ ЗАШТИТЕ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План је полазна основа сваког програма, водич за програмирање, а</a:t>
            </a:r>
            <a:r>
              <a:rPr b="0" i="1" lang="sr-C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програм </a:t>
            </a:r>
            <a:r>
              <a:rPr b="0" lang="sr-C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је иструмент непосредног остваривања здравствених циљев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Програм здравствене заштите  подразумева скуп интегрисаних активности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усмерених на остваривање једног или више циљев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3" descr="Rezultat slika za world health organisation pictures"/>
          <p:cNvPicPr/>
          <p:nvPr/>
        </p:nvPicPr>
        <p:blipFill>
          <a:blip r:embed="rId1"/>
          <a:stretch/>
        </p:blipFill>
        <p:spPr>
          <a:xfrm>
            <a:off x="5791320" y="4724280"/>
            <a:ext cx="2133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entury Schoolbook"/>
              </a:rPr>
              <a:t>ПРОГРАМИ ЗДРАВСТВЕНЕ ЗАШТИТЕ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acc1e8"/>
                </a:solidFill>
                <a:latin typeface="Century Schoolbook"/>
              </a:rPr>
              <a:t>Општи</a:t>
            </a:r>
            <a:r>
              <a:rPr b="0" lang="sr-CS" sz="2400" spc="-1" strike="noStrike">
                <a:solidFill>
                  <a:srgbClr val="575f6d"/>
                </a:solidFill>
                <a:latin typeface="Century Schoolbook"/>
              </a:rPr>
              <a:t>-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утврђују циље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 за укупно побољшањ здравственог стања становништва у широј или ужој заједниц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acc1e8"/>
                </a:solidFill>
                <a:latin typeface="Century Schoolbook"/>
              </a:rPr>
              <a:t>Специфични</a:t>
            </a:r>
            <a:r>
              <a:rPr b="0" lang="sr-CS" sz="2400" spc="-1" strike="noStrike">
                <a:solidFill>
                  <a:srgbClr val="575f6d"/>
                </a:solidFill>
                <a:latin typeface="Century Schoolbook"/>
              </a:rPr>
              <a:t>-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када се утврђују циљеви за промену стања у једној групацији становништва (деца, старе особе, труднице), или у циљу контроле једног или више обољења (КВБ, малигне болести,  и сл.) или здравственог проблема (смртност одојчади.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Пре израде програма здравствене заштите неопходно је извршити детаљну анализу стања у погледу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-кретања обољења (морталитет, морбидитет, радна онеспособљености сл.)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-података који се односе на територију (демографски, економски и социјални услови)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-капацитет здравствених установа 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-мотивисаност зд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вствене</a:t>
            </a: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 службе као и спремност грађана да у њему учествуј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entury Schoolbook"/>
              </a:rPr>
              <a:t>ПРИНЦИПИ ИЗРАДЕ ПРОГРАМА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Научна заснованос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Сигурнос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Ефикаснос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Квалит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Сврсисходнос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Експедитивнос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Економичнос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Флексибилнос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Адекватнос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entury Schoolbook"/>
              </a:rPr>
              <a:t>ФАЗЕ У ПРОЦЕСУ ПЛАНИРАЊА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acc1e8"/>
                </a:solidFill>
                <a:latin typeface="Century Schoolbook"/>
              </a:rPr>
              <a:t>Прва фаза: </a:t>
            </a: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Фаза припрем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ношење одлуке о припреми плана, израда стручних и аналитичко -документационих материјала и доношење смерница и полити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acc1e8"/>
                </a:solidFill>
                <a:latin typeface="Century Schoolbook"/>
              </a:rPr>
              <a:t>Друга фаза: </a:t>
            </a: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Фаза усаглашавањ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(Анализа потреба и захтева за здравственом заштитом, преглед и анализа расположивих ресурса, одређивање циљева приоритета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acc1e8"/>
                </a:solidFill>
                <a:latin typeface="Century Schoolbook"/>
              </a:rPr>
              <a:t>Трећа фаза: </a:t>
            </a: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Доношење пла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(израда нацрта плана, предлога, доношење плана и давање сагласности од органа управљања, влада и парламенат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acc1e8"/>
                </a:solidFill>
                <a:latin typeface="Century Schoolbook"/>
              </a:rPr>
              <a:t>Четврта фаза: </a:t>
            </a: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Остваривање здравствене заштит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Спровођење плана и његово инкорпорирање у целокупну здравствену структур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Дефинисање планирањ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Типови планирањ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дела планирањ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ременски хоризонти за планирањ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Облици планирањ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ограми здравствене заштит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азе у процесу планирањ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Методе планирањ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600200"/>
            <a:ext cx="8153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acc1e8"/>
                </a:solidFill>
                <a:latin typeface="Century Schoolbook"/>
                <a:ea typeface="Times New Roman"/>
              </a:rPr>
              <a:t>Пета фаза</a:t>
            </a:r>
            <a:r>
              <a:rPr b="1" lang="sr-CS" sz="2400" spc="-1" strike="noStrike">
                <a:solidFill>
                  <a:srgbClr val="7598d9"/>
                </a:solidFill>
                <a:latin typeface="Century Schoolbook"/>
                <a:ea typeface="Times New Roman"/>
              </a:rPr>
              <a:t>: </a:t>
            </a:r>
            <a:r>
              <a:rPr b="0" i="1" lang="sr-C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Евалуациј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- исходна евалуација </a:t>
            </a:r>
            <a:r>
              <a:rPr b="0" lang="sr-C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(процена степена до кога су постигнути постављени циљеви )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-процесна евалуација-</a:t>
            </a:r>
            <a:r>
              <a:rPr b="0" lang="sr-C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(формулисање оцене о томе како су циљеви постигнути) 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-економска евалуација </a:t>
            </a:r>
            <a:r>
              <a:rPr b="0" lang="sr-C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(процена односа између постигнутих ефеката и утрошених средстав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entury Schoolbook"/>
              </a:rPr>
              <a:t>МЕТОДЕ ПЛАНИРАЊА 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Методе базиране на морбидитету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узимају у обзир број оболелих на одређеној територији у одређеном временском периоду и на основу тога планирају потребне кадрове и постељ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Методе базиране на морталитету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поузданије су што се тиче броја, међутим неподесне су због тога што је задатак здравствене службе да својим ангажманом смањује број умрлих, што она и чин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entury Schoolbook"/>
              </a:rPr>
              <a:t>МЕТОДЕ ПЛАНИРАЊА 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Методе базиране на коришћењу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узимају у обзир број људи који су у протеклом периоду користили здравствену службу и из којих разлога, и на основу тога планира будуће обезбеђење службо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Методе базиране на коришћењу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узимају у обзир број људи који су у протеклом периоду користили здравствену службу и из којих разлога, и на основу тога планира будуће обезбеђење службо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entury Schoolbook"/>
              </a:rPr>
              <a:t>МЕТОДЕ ПЛАНИРАЊА 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Методе базиране на извршењу систем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конципиране су тако да процењују да ли је здравствена установа извршила поверене јој задатке и да ли је утицала на здравствену слику територије или групације становништва за коју је основа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Методе базиране на структури систем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су најсложеније и базирају се на међусобним односима појединих делова у здравственом систему и на математичком моделирању тих одно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ХВАЛА НА ПАЖЊ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entury Schoolbook"/>
              </a:rPr>
              <a:t>ШТА ЈЕ ПЛАНИРАЊЕ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Планирање се може дефинисати као постављање циљева, прецизирање активности, путева и ресурса за њихово остваривањ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Планирање је процес помоћу кога се обезбеђују ресурси потребни за будућност, а на основу расположивих знања и помоћу специјализираних метода и техник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Picture 5" descr="Rezultat slika za светска здравствена организациј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4800600"/>
            <a:ext cx="25146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entury Schoolbook"/>
              </a:rPr>
              <a:t>Сврха планирања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да се предвиде кретања у будућности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ако би се</a:t>
            </a: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  одговарајућим мерама избегле неизвесности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entury Schoolbook"/>
              </a:rPr>
              <a:t>да би се пронашли начини за што потпуније задовољавање приоритетздравствених потреба људи уз што економичније коришћење увек ограничених финансијских средстава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entury Schoolbook"/>
              </a:rPr>
              <a:t>НИВОИ ИЛИ ТИПОВИ ПЛАНИРАЊ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cc1e8"/>
                </a:solidFill>
                <a:latin typeface="Century Schoolbook"/>
              </a:rPr>
              <a:t>Нормативно планирање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одговара на питање </a:t>
            </a:r>
            <a:r>
              <a:rPr b="0" lang="en-US" sz="2400" spc="-1" strike="noStrike">
                <a:solidFill>
                  <a:srgbClr val="92d050"/>
                </a:solidFill>
                <a:latin typeface="Century Schoolbook"/>
              </a:rPr>
              <a:t>ЗАШТ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је потребно планирати, које су основне вредности , теорије и регулатива који дефинишу планирање у једној средини (дефинишу се политичке, економске и друге претпоставке за достизање циљев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cc1e8"/>
                </a:solidFill>
                <a:latin typeface="Century Schoolbook"/>
              </a:rPr>
              <a:t>Институционално планирање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одговара на питање </a:t>
            </a:r>
            <a:r>
              <a:rPr b="0" lang="en-US" sz="2400" spc="-1" strike="noStrike">
                <a:solidFill>
                  <a:srgbClr val="92d050"/>
                </a:solidFill>
                <a:latin typeface="Century Schoolbook"/>
              </a:rPr>
              <a:t>К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и бави се проблемима компетиције кадра који ће носити одређене планске активно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НИВОИ ИЛИ ТИПОВИ ПЛАНИРАЊ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cc1e8"/>
                </a:solidFill>
                <a:latin typeface="Century Schoolbook"/>
              </a:rPr>
              <a:t>Стратешко планирање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одговара на питање </a:t>
            </a:r>
            <a:r>
              <a:rPr b="0" lang="en-US" sz="2400" spc="-1" strike="noStrike">
                <a:solidFill>
                  <a:srgbClr val="92d050"/>
                </a:solidFill>
                <a:latin typeface="Century Schoolbook"/>
              </a:rPr>
              <a:t>КАКО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и бави се избором и дефинисањем циљева. На овом нивоу се општи циљеви једне заједнице претварају у специфичне здравствене циљеве, дефинишу се специфичне активности, бирају се инструменти којима се циљеви могу досегну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cc1e8"/>
                </a:solidFill>
                <a:latin typeface="Century Schoolbook"/>
              </a:rPr>
              <a:t>Структурално планирање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бави се питањем </a:t>
            </a:r>
            <a:r>
              <a:rPr b="0" lang="en-US" sz="2400" spc="-1" strike="noStrike">
                <a:solidFill>
                  <a:srgbClr val="92d050"/>
                </a:solidFill>
                <a:latin typeface="Century Schoolbook"/>
              </a:rPr>
              <a:t>ГД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, односно средствима и структуралним предусловима за остваривање плана.  Структуру чине материјални, кадровски и институционални предуслов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НИВОИ ИЛИ ТИПОВИ ПЛАНИРАЊ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cc1e8"/>
                </a:solidFill>
                <a:latin typeface="Century Schoolbook"/>
              </a:rPr>
              <a:t>Операционално планирање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бави се непосредним и конкретним задацима у плану- разрађивање плана. (ресури се организују како би се реализовао циљ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3" descr="Rezultat slika za планирањ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3276720"/>
            <a:ext cx="3962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900" spc="-1" strike="noStrike">
                <a:solidFill>
                  <a:srgbClr val="000000"/>
                </a:solidFill>
                <a:latin typeface="Century Schoolbook"/>
              </a:rPr>
              <a:t>ПОДЕЛА ПЛАНИРАЊА ПРЕМА СВЕТСКОЈ ЗДРАВСТВЕНОЈ ОРГАНИЗАЦИЈИ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entury Schoolbook"/>
              </a:rPr>
              <a:t>Планирање за здравње или национално здравствено планирање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подразумева оптималну употребу расположивих националних ресурса за унапређење здравља и побољшање здравственог стања у датом временском периоду било да се ти извори налазе унутар или ван здравственог систем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5" descr="Rezultat slika za светска здравствена организациј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3962520"/>
            <a:ext cx="19065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entury Schoolbook"/>
              </a:rPr>
              <a:t>ПОДЕЛА ПЛАНИРАЊА ПРЕМА СВЕТСКОЈ ЗДРАВСТВЕНОЈ ОРГАНИЗАЦИЈИ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entury Schoolbook"/>
              </a:rPr>
              <a:t>Планирање за здравствену службу </a:t>
            </a: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представља проналажење  најефикаснијих начина за развој и обезбеђење службе кроз један одређени временски период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вде се посебно издваја планирање кадра у здравству и то као “процес успостављања квалитета и типа знања, вештина и способности потребних да се уведе промена у функционисању здравственог система тако да се учини вероватним да ће се жељене промене у здравственом стању  досегнути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5" descr="Rezultat slika za светска здравствена организација"/>
          <p:cNvPicPr/>
          <p:nvPr/>
        </p:nvPicPr>
        <p:blipFill>
          <a:blip r:embed="rId1"/>
          <a:stretch/>
        </p:blipFill>
        <p:spPr>
          <a:xfrm>
            <a:off x="6553080" y="5486400"/>
            <a:ext cx="1449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1:58:37Z</dcterms:created>
  <dc:creator>User</dc:creator>
  <dc:description/>
  <dc:language>en-US</dc:language>
  <cp:lastModifiedBy>Mirjana Petrovic</cp:lastModifiedBy>
  <dcterms:modified xsi:type="dcterms:W3CDTF">2021-02-01T05:01:31Z</dcterms:modified>
  <cp:revision>144</cp:revision>
  <dc:subject/>
  <dc:title>Youth Suicide Prevention</dc:title>
</cp:coreProperties>
</file>